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915-3ACE-4B37-B794-74DAF8A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584-931D-4363-A284-24C505A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A0E-B0FC-4312-922E-464F8560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0D4-EDDF-41D2-BD51-FEEC2835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C15-CF43-4FA4-A816-6D39A088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648-EE99-4AE3-9A7C-D94D80C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81D-E6AD-4C69-97A6-2ADCB7A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84C-F02D-4518-B1E4-CAB5BF3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57D-1C34-4FBA-8AE5-29E4158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4C2-513D-4482-87D9-55A6639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4DD-C9F2-48BB-8AB3-3A4A181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D3B-30C9-4E3F-AA40-76BA5A0C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ADB2-902A-4980-83F9-DEA23097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0360" y="212760"/>
            <a:ext cx="874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Bookman Old Style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осподнята събота св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става отново за н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нек всяка твар на земя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е радва на Бога в захл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ъв тихия нежен вет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 бурята говори Той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ах да можех проумя днес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казва ми с това Бог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ед или назад в живо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казва, прощава - все Т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реша ли, със смърт м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плашва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о пък и Спасител е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0800" y="384480"/>
            <a:ext cx="680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рцето ми в тоз ден възп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елата на Бога пресвят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Господ Исус ми дар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особената благодат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д звезди, ветрове и бур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и, Боже, Си сам Господ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те заедно със морето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еб славят - свой Бог и свой Ц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емята, небето Ти пея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ъв тоз ден, от Теб осветен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рославя Те Твоето д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свършено бе в седмий д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86600" y="400320"/>
            <a:ext cx="6633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м земната мисия свърш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очина Си в събота Сп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 всички спасени знак вечен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авена бе тя тогаз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днес ми обещава радост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блаженство Спасителят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ой кани ме в тоз ден на святос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а дойда във пълен пок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бира Той людете Сво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вой знак слага им на ч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небесен покой Той ги вод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един дух и в едно т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5:10:45Z</dcterms:created>
  <dc:creator>TrifonTrifonow</dc:creator>
  <dc:description/>
  <dc:language>en-US</dc:language>
  <cp:lastModifiedBy>TrifonTrifonow</cp:lastModifiedBy>
  <dcterms:modified xsi:type="dcterms:W3CDTF">2005-11-21T14:12:13Z</dcterms:modified>
  <cp:revision>9</cp:revision>
  <dc:subject/>
  <dc:title>Slide 1</dc:title>
</cp:coreProperties>
</file>